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AE9-9C72-4D13-81D4-440DE9CE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1EA-76B3-4BAF-B0BE-9E4989C1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810-2301-4602-8819-5F02F98A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F38-0689-456C-8027-C0C3A4F2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13B-199C-4E57-979D-CC982EF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F17-34A2-4787-ACC8-117F35BB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F7E-75CA-4FE8-8F49-495905BA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384-3672-40DF-809B-C153723A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8C9-5074-4B58-9090-388547D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EE8-9DB1-4149-9764-48A07ED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15B-74E9-47F6-91A5-172D686B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823-001D-4119-B8AC-BEFC70C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F09F-4100-4831-9FAD-E5D406AAFC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price mechanism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role of the price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ources are allocated and re-allocated in response to changes in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an increase in the price of a good due to an increase in demand for the good there is a signal to the produc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ig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ells producers that consumers wish to buy this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ssume that producers are rational and wish to maximise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an incentive for them to produce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ers allocate more resources to those goods where the demand is highest (they will make more prof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t central planning ag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am Smith said it was like there was an invisible hand moving the factors of production around  to produce the goods and services wanted by the buyers in the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659640" y="404640"/>
            <a:ext cx="216036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ce mechanis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forces of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invisible+hand+1"/>
          <p:cNvPicPr/>
          <p:nvPr/>
        </p:nvPicPr>
        <p:blipFill>
          <a:blip r:embed="rId1"/>
          <a:stretch/>
        </p:blipFill>
        <p:spPr>
          <a:xfrm>
            <a:off x="6084720" y="256536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Consum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940360" y="189000"/>
            <a:ext cx="2879640" cy="2014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tra satisfaction (or utility) gained by consumers from paying a price that is lower than that they are prepared t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55640" y="90792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 surplus video: http://www.youtube.com/watch?feature=player_detailpage&amp;v=qTxniCLY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as-markets-consumer-surplus_clip_image001"/>
          <p:cNvPicPr/>
          <p:nvPr/>
        </p:nvPicPr>
        <p:blipFill>
          <a:blip r:embed="rId1"/>
          <a:srcRect l="0" t="13921" r="0" b="0"/>
          <a:stretch/>
        </p:blipFill>
        <p:spPr>
          <a:xfrm>
            <a:off x="1332000" y="2492280"/>
            <a:ext cx="64832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Produc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rough page 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ke 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k questions if you don’t under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64000" y="260280"/>
            <a:ext cx="324036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cess of actual earnings that a producer makes from a given quantity of output, over and above the amount the producer would be prepared to accept for th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24000" y="256536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 surplus video: http://www.youtube.com/watch?v=MinxczZXtKA&amp;feature=player_detail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a2-micro-consumer-producer-surplus_clip_image001"/>
          <p:cNvPicPr/>
          <p:nvPr/>
        </p:nvPicPr>
        <p:blipFill>
          <a:blip r:embed="rId1"/>
          <a:stretch/>
        </p:blipFill>
        <p:spPr>
          <a:xfrm>
            <a:off x="2916360" y="2565360"/>
            <a:ext cx="5829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5367240" y="2830680"/>
            <a:ext cx="3886200" cy="3644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400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ive efficiency means that resources are allocated in the most efficient way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rom society’s point of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kind of efficiency is not the same as being efficient at operating like within a firm.  This is called productive efficiency and we will learn about that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dd consumer and producer surplus together this is the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urplus is the total benefit to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the equilibrium community surplus is maxim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 point of 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 other combination of price or quantity  that could give greater 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refore the optimal allocation of resources from the point of view of society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when a market is in equilibrium, with no external influences, it is said to be socially efficient or in a state of allocativ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17476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32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upply curve is largely determined by the industry’s costs of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ssume that the costs of the industry are equal to the costs to society then the supply curve represents the social cost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call this the </a:t>
            </a: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marginal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ocial cost cur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costs (MSC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supply curve represents the marginal social cost curve when the costs to industry are equal to the costs of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28924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345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emand curve is determined by the utility, or benefits, that the consumption of a good or service brings to the consu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ssume the benefits in the market are equal to the benefits to society we can use the demand curve to represent the social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refer to the demand curve as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arginal social benefit curve (MS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940360" y="260280"/>
            <a:ext cx="2664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benefits (MSB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demand curve represents the marginal social benefits curve when the benefits in the market are equivalent to the benefits to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7921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only a brief introduction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me back to it in a lot more detail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free market leads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 surplus is maximised so it is the optimum allocation of resources from society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occurs when demand is equal to supply or marginal social costs are equal to marginal soc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fore we get to the HL bit here is the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omework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lete the data response question on P44 (copp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ke sure you read the assessment ad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268832720copper"/>
          <p:cNvPicPr/>
          <p:nvPr/>
        </p:nvPicPr>
        <p:blipFill>
          <a:blip r:embed="rId1"/>
          <a:stretch/>
        </p:blipFill>
        <p:spPr>
          <a:xfrm>
            <a:off x="5219640" y="1413000"/>
            <a:ext cx="3549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higher"/>
          <p:cNvPicPr/>
          <p:nvPr/>
        </p:nvPicPr>
        <p:blipFill>
          <a:blip r:embed="rId1"/>
          <a:stretch/>
        </p:blipFill>
        <p:spPr>
          <a:xfrm>
            <a:off x="1763640" y="1557360"/>
            <a:ext cx="5473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4_5_static_market_equilibrium"/>
          <p:cNvPicPr/>
          <p:nvPr/>
        </p:nvPicPr>
        <p:blipFill>
          <a:blip r:embed="rId1"/>
          <a:stretch/>
        </p:blipFill>
        <p:spPr>
          <a:xfrm>
            <a:off x="3851280" y="3057480"/>
            <a:ext cx="5073480" cy="3800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561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alculating and illustrating market equilibrium using linear demand and supply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are given the demand function and the supply function you easily plot the graphs of both and where they cross is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ely you can work out the equilibrium using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Work through page 39 to 43 and then complete student workpoint 3.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is section you should be abl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 of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effect of changes in demand and supply upon the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s of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L – calculate the market price and quantity us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changing market equilibriums, identifying new equilibrium points,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76000" y="2060280"/>
            <a:ext cx="67676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ringing market demand and supply curves togeth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inging buyers (demanders) and sellers (suppliers) together creates what economist call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en we picture a market in our heads we tend to think of a fruit and veg market but a market does not even have to be physical  - it is just where buyers and sellers interact.  Transactions can by carried out by phone, mail order or over the intern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electronic market ebay"/>
          <p:cNvPicPr/>
          <p:nvPr/>
        </p:nvPicPr>
        <p:blipFill>
          <a:blip r:embed="rId1"/>
          <a:stretch/>
        </p:blipFill>
        <p:spPr>
          <a:xfrm>
            <a:off x="6372360" y="4508640"/>
            <a:ext cx="2558880" cy="255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ruit and veg market"/>
          <p:cNvPicPr/>
          <p:nvPr/>
        </p:nvPicPr>
        <p:blipFill>
          <a:blip r:embed="rId2"/>
          <a:stretch/>
        </p:blipFill>
        <p:spPr>
          <a:xfrm>
            <a:off x="0" y="0"/>
            <a:ext cx="30830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igh street"/>
          <p:cNvPicPr/>
          <p:nvPr/>
        </p:nvPicPr>
        <p:blipFill>
          <a:blip r:embed="rId3"/>
          <a:stretch/>
        </p:blipFill>
        <p:spPr>
          <a:xfrm>
            <a:off x="5975280" y="0"/>
            <a:ext cx="3168720" cy="21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tock market"/>
          <p:cNvPicPr/>
          <p:nvPr/>
        </p:nvPicPr>
        <p:blipFill>
          <a:blip r:embed="rId4"/>
          <a:stretch/>
        </p:blipFill>
        <p:spPr>
          <a:xfrm>
            <a:off x="0" y="4861080"/>
            <a:ext cx="30225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ch the mjm 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youtube.com/watch?v=322-ZPjGwGQ&amp;feature=player_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cales - balance"/>
          <p:cNvPicPr/>
          <p:nvPr/>
        </p:nvPicPr>
        <p:blipFill>
          <a:blip r:embed="rId1"/>
          <a:stretch/>
        </p:blipFill>
        <p:spPr>
          <a:xfrm>
            <a:off x="6458040" y="0"/>
            <a:ext cx="268596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640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order to analyse how a market works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 the demand and supply curve together and from now on w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raw our diagrams with both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when supply satisfies demand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produced in the market will be 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are equal, there is balance/stability and there is no tendency for the market to change without extern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ory the price system should produce equilibrium as we will see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628640" y="2924280"/>
            <a:ext cx="0" cy="353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630440" y="6461280"/>
            <a:ext cx="4728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440320" y="65102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of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903320" y="3197160"/>
            <a:ext cx="4078440" cy="288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1847880" y="3359160"/>
            <a:ext cx="3751200" cy="26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932360" y="5877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1630080" y="4557600"/>
            <a:ext cx="222876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862440" y="4557600"/>
            <a:ext cx="0" cy="1903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900000" y="4387680"/>
            <a:ext cx="6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459240" y="6510240"/>
            <a:ext cx="62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224320" y="4067280"/>
            <a:ext cx="23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rket equilibrium price is Pe and quantity is Q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932360" y="31417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814920" y="3741840"/>
            <a:ext cx="28440" cy="799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193920" y="308304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79280" y="54450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 clear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826920" y="4724280"/>
            <a:ext cx="289080" cy="72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rket disequilibrium and eliminating excess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lf righ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 fre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s says the producers increase their price to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1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2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too much supply (excess supply) of Q1 –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ket is said to be in dis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rid of the surplus producers will have to supply at a lower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they do the quantity demanded will increase until once again demand equals supply and there is equilibrium onc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781360" y="3179880"/>
            <a:ext cx="1440" cy="274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82800" y="5925960"/>
            <a:ext cx="3675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908000" y="30560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740560" y="59641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994120" y="3390840"/>
            <a:ext cx="3168720" cy="223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2951280" y="3517560"/>
            <a:ext cx="2914560" cy="20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248440" y="53611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782440" y="4446720"/>
            <a:ext cx="17319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514760" y="4446720"/>
            <a:ext cx="1800" cy="1479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241720" y="431640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259160" y="59641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321160" y="32716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2782440" y="3772080"/>
            <a:ext cx="2745000" cy="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081160" y="364500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541680" y="3772080"/>
            <a:ext cx="180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089160" y="5964120"/>
            <a:ext cx="5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527800" y="3772080"/>
            <a:ext cx="144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238720" y="59641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4442760" y="5441760"/>
            <a:ext cx="122400" cy="1957320"/>
          </a:xfrm>
          <a:custGeom>
            <a:avLst/>
            <a:gdLst>
              <a:gd name="textAreaLeft" fmla="*/ 0 w 122400"/>
              <a:gd name="textAreaRight" fmla="*/ 44280 w 122400"/>
              <a:gd name="textAreaTop" fmla="*/ 50760 h 1957320"/>
              <a:gd name="textAreaBottom" fmla="*/ 1906560 h 19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376440" y="654372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Supply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297160" y="5937120"/>
            <a:ext cx="5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arket disequilibrium and eliminating excess de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ime producers tried to lower thei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too much demand at Q2 and not enough supply at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rket is i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sequilibriu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re i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excess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2 will be demanded but only Q1 will be supplied which means there will be a shortage (suppliers will sell ou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hortage off Q2 –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2323800" y="5460840"/>
            <a:ext cx="174600" cy="1295640"/>
          </a:xfrm>
          <a:custGeom>
            <a:avLst/>
            <a:gdLst>
              <a:gd name="textAreaLeft" fmla="*/ 0 w 174600"/>
              <a:gd name="textAreaRight" fmla="*/ 63000 w 174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6308640"/>
            <a:ext cx="25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demand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76720" y="2898720"/>
            <a:ext cx="388800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eliminate the shortage producers have to raise thei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y do the quantity demanded will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 demand and supply will be equal again giving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79280" y="2997360"/>
            <a:ext cx="4537080" cy="3025800"/>
            <a:chOff x="179280" y="2997360"/>
            <a:chExt cx="4537080" cy="3025800"/>
          </a:xfrm>
        </p:grpSpPr>
        <p:sp>
          <p:nvSpPr>
            <p:cNvPr id="96" name="Line 7"/>
            <p:cNvSpPr/>
            <p:nvPr/>
          </p:nvSpPr>
          <p:spPr>
            <a:xfrm>
              <a:off x="798480" y="2997360"/>
              <a:ext cx="0" cy="26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798480" y="5618160"/>
              <a:ext cx="350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621240" y="56548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1000080" y="3198960"/>
              <a:ext cx="302436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V="1">
              <a:off x="960480" y="3319560"/>
              <a:ext cx="2781360" cy="193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635280" y="515772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 flipH="1">
              <a:off x="798120" y="4206960"/>
              <a:ext cx="1654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2452680" y="4206960"/>
              <a:ext cx="0" cy="141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395280" y="3933720"/>
              <a:ext cx="3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2195640" y="5654880"/>
              <a:ext cx="4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3564000" y="3141720"/>
              <a:ext cx="52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 flipH="1">
              <a:off x="798120" y="4651560"/>
              <a:ext cx="2259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179280" y="4525920"/>
              <a:ext cx="5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0"/>
            <p:cNvSpPr/>
            <p:nvPr/>
          </p:nvSpPr>
          <p:spPr>
            <a:xfrm>
              <a:off x="1806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1"/>
            <p:cNvSpPr/>
            <p:nvPr/>
          </p:nvSpPr>
          <p:spPr>
            <a:xfrm>
              <a:off x="1476360" y="5654880"/>
              <a:ext cx="4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3057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700360" y="56548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iously we looked at factors that shift the demand curve and supply curve – these are outside disturbances (nothing to do with the price although they will change the 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need to look at what those shifts do to the equilibrium price and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 life lots of things may change at the same time but to make it simple we only deal with single changes and assume that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teris parib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dition i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is Latin for ‘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l things being 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– in other words nothing else ha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s take the example of an increase in income for consumers of foreign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is an increase in income there will be an increase in the demand for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there will be a shift of the demand curve to th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ly the price remains at the equilibrium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1 will be su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2 will be dema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will be excess demand (a short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et rid of the shortage prices will need to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til once again equilibrium is restored but at a higher price of P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w equilibrium quantity is Q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ever there is a shift of the demand or supply curve the market (if it is left alone) will adjust to a new equilibrium or market clearing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mplete student workpoint 3.1 P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859280" y="220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364000" y="2492280"/>
            <a:ext cx="16480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7093080" y="2468520"/>
            <a:ext cx="9360" cy="1681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6711840" y="422100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2:25:25Z</dcterms:created>
  <dc:creator>Rom</dc:creator>
  <dc:description/>
  <dc:language>en-US</dc:language>
  <cp:lastModifiedBy>Julia Peters</cp:lastModifiedBy>
  <dcterms:modified xsi:type="dcterms:W3CDTF">2012-09-20T04:05:59Z</dcterms:modified>
  <cp:revision>11</cp:revision>
  <dc:subject/>
  <dc:title>Market Equilibrium The price mechanisms and  Market efficiency  IB Economics</dc:title>
</cp:coreProperties>
</file>